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5803-1477-4984-9148-B78461BB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DC28-95E9-4DF8-BC31-BDA40469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B01E-4844-4DC4-9018-2464B2A4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F219-CB4B-4CC0-BF90-952D44FD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B341-7CCA-46FD-A490-F39882B8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2B2A-15DC-491E-BAF7-0673D2A3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E6DA-E09A-43D4-ADD2-E1ACC7EB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D543-0027-445A-94D3-D489B7D6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039F-6CB0-4734-8389-A0CF4531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3875-58A6-4C56-8A3A-59108913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A36D-3262-4835-9B9B-A2A9A1C2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E11D-555D-4AE4-877F-1363083F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7BE0-A7D5-436F-A373-027DAE38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69C7-070B-41D0-97FC-06DF746E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BE3C-9CF7-4BA4-B064-D1508B0B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E542-21D7-4C44-AB43-FA548316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5796-B68F-4525-A995-69F4F973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B87F-9D19-4CFB-9EB9-042D7FCE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38B0-F8BF-4B39-97B7-9A118E7D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AE07-CD7D-4679-8B02-7B7A7539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CB81-6C1D-4562-8382-23066E84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0A16-AC7D-420F-B15A-2E7D56A2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8AD9-C608-4016-800A-65532988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0EB1-C26C-473B-B3CF-B8258696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B22F-2457-4F43-A5C1-761620F1E9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B4E8-ABC5-4175-A787-35AF9E3C7A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Наркотики и их влияние на мозг челове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3200" y="4508280"/>
            <a:ext cx="6400800" cy="28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атракеева Татья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31 групп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ы знаете какое влияние на мозг имеют наркотические веществ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931160" cy="40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кой вред наносит употребление наркотиков физическому здоровью человек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43280" y="3716280"/>
            <a:ext cx="39243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2781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рвную систему (в том числе головной мозг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ммунную систему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чень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рдц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егк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981000"/>
            <a:ext cx="867564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е наркотики независимо от пути введения в организм в большей или меньшей степени обязательно повреждают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ешь ли ты среднюю продолжительность жизни наркомана?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потреблении наркотиков внутривенно 7-10 лет непрерывной наркотизации. Но есть и такие, которые погибают из-за них через 6-8 месяцев после начала регулярного приема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427640" y="3789360"/>
            <a:ext cx="41907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ред наркомании проявляетс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зкое поху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нижение веса те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менение осанки туловищ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ждевременное стар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аже одна доза наркотического вещества может вызвать наркотическую зависимость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716360" y="4292640"/>
            <a:ext cx="3934080" cy="22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4:06:49Z</dcterms:created>
  <dc:creator>07102</dc:creator>
  <dc:description/>
  <dc:language>en-US</dc:language>
  <cp:lastModifiedBy>07102</cp:lastModifiedBy>
  <dcterms:modified xsi:type="dcterms:W3CDTF">2009-12-17T14:41:52Z</dcterms:modified>
  <cp:revision>3</cp:revision>
  <dc:subject/>
  <dc:title>Наркотики и их влияние на мозг человека</dc:title>
</cp:coreProperties>
</file>